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38B-BA3F-4C95-9FC0-90BF70F6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A68-2A7D-4307-A4E9-E24A9AB0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D507-EE02-454C-A06B-25E1A9E0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E505-8F65-4150-854B-F3C068D0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D393-922F-4667-8FBE-1982DE6A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CFB-BE73-4EEF-9B62-57397AFF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B78A-63D6-4974-AE0B-9E17757E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E70-BA76-4405-8987-7001E242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D7A-63CE-464F-A5B5-CB0950BB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E44-D158-41FD-A0CD-08687B46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286-1494-4D7F-A5BA-FB780F96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9E7-A7D4-4EB6-B0B1-6C181E78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1730-269F-4E61-A54C-246A4A06BA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355680" y="2076480"/>
            <a:ext cx="856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ي إله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وحي النبوة لا يكون إلا للرج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368280" y="907920"/>
            <a:ext cx="8596440" cy="116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2556000" y="3789360"/>
            <a:ext cx="6273720" cy="48276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24000" y="4437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نعمل مثل ما عملوا فيصيبنا مثل ما أصا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08"/>
          <a:stretch/>
        </p:blipFill>
        <p:spPr>
          <a:xfrm>
            <a:off x="195120" y="2708280"/>
            <a:ext cx="87537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635200" y="5089680"/>
            <a:ext cx="3873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42160" cy="47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en-US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66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نزي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عز وجل على علم وهدى وبصيرة واتباع منهج الرسول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الدعو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هج الصحيح في البدء بالدعوة إلى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دء بالتوحيد والتحذير من ال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م يبعث رسولاً من النس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رسالة من خصوصيات الرج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نظر والتأمل والتدبر في أخبار وآثار ومآل الأمم الساب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أهل الإيمان والتقوى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88880" y="907920"/>
            <a:ext cx="8467920" cy="11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250920" y="2157480"/>
            <a:ext cx="8424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2920" y="907920"/>
            <a:ext cx="8480160" cy="252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276120" y="357336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شترط في الدعوة اكتمال العلم بل يكفي ان يدعوهم بقدر علمه ولا يشترط ترك جميع المعاصي . قال ال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235080" y="4556160"/>
            <a:ext cx="8672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38:47Z</dcterms:modified>
  <cp:revision>2025</cp:revision>
  <dc:subject/>
  <dc:title>عرض تقديمي في PowerPoint</dc:title>
</cp:coreProperties>
</file>